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971-0A17-4E85-A288-ADAC2064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CD3-D96B-4C10-91F7-E183596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C92-7E34-483F-92C3-1756365C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D43-8D55-4EC4-9885-CEA6B42F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430-BD39-455C-BBBF-57F26B6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B14-E8C0-4AC0-A9EB-79A05BA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912-E2D4-4206-950E-5084E70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07D-6BEA-4FE9-9BF1-B0C16290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376-C6B7-4102-ACA5-4852586A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B05-9A23-42AB-8ACA-4A1872D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815-B17E-448B-9316-D7E7B01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E0D-6A51-488E-B572-103B95C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A58-66B1-40E2-A7C6-F6A9F725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0803800">
            <a:off x="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Bodoni MT Black"/>
              </a:rPr>
              <a:t>Quick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98280" y="260280"/>
            <a:ext cx="50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doni MT Black"/>
              </a:rPr>
              <a:t>Match the techniques with th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14800" y="765000"/>
            <a:ext cx="28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hetoric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i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mand / 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dal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rsonal pro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00000" y="765000"/>
            <a:ext cx="45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332000" y="836640"/>
            <a:ext cx="0" cy="602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35600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530240" y="765000"/>
            <a:ext cx="410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fox is a living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90% of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weak and defenceless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ople should be more car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o why don’t people stop h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ld, tired and hu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 believe hunting is a good 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bright and blazing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 don’t have to put up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ink about this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n army of hunting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 rot="20803800">
            <a:off x="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Bodoni MT Black"/>
              </a:rPr>
              <a:t>Quick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798280" y="260280"/>
            <a:ext cx="50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doni MT Black"/>
              </a:rPr>
              <a:t>Match the techniques with th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14800" y="765000"/>
            <a:ext cx="28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hetoric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i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mand / 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dal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rsonal pro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00000" y="765000"/>
            <a:ext cx="45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332000" y="836640"/>
            <a:ext cx="0" cy="602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35600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530240" y="765000"/>
            <a:ext cx="410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fox is a living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90% of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weak and defenceless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ople should be more car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o why don’t people stop h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ld, tired and hu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 believe hunting is a good 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bright and blazing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 don’t have to put up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ink about this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n army of hunting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203640" y="981000"/>
            <a:ext cx="136836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2556000" y="90756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627280" y="206064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851280" y="2637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564000" y="2133720"/>
            <a:ext cx="100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2700360" y="1557000"/>
            <a:ext cx="1800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2411280" y="364464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2627280" y="4797360"/>
            <a:ext cx="2016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4067280" y="5445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843280" y="2565000"/>
            <a:ext cx="165744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V="1">
            <a:off x="3635280" y="5373360"/>
            <a:ext cx="865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rest-39zi"/>
          <p:cNvPicPr/>
          <p:nvPr/>
        </p:nvPicPr>
        <p:blipFill>
          <a:blip r:embed="rId1"/>
          <a:stretch/>
        </p:blipFill>
        <p:spPr>
          <a:xfrm>
            <a:off x="-396720" y="19080"/>
            <a:ext cx="10548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66120" y="201600"/>
            <a:ext cx="75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eatures of speech writing – in A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3920" y="836640"/>
            <a:ext cx="8190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Repetition / Rhetorical ques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Triples (Three, rule of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7840" y="48895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 this list in your books, then underneath write A FOREST in the margin as written above. Next to each letter, write a sentence that uses the relevant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20:28:16Z</dcterms:created>
  <dc:creator>Retestrak</dc:creator>
  <dc:description/>
  <dc:language>en-US</dc:language>
  <cp:lastModifiedBy>GRAHAM-PROWSE, Felicity(GRA)</cp:lastModifiedBy>
  <dcterms:modified xsi:type="dcterms:W3CDTF">2012-05-15T12:23:51Z</dcterms:modified>
  <cp:revision>3</cp:revision>
  <dc:subject/>
  <dc:title>Slide 1</dc:title>
</cp:coreProperties>
</file>